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783-94D2-4E9C-8112-FC1AD6A2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5D7-7510-47C9-BCC2-8161F42F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87351-FB11-47FA-8742-CF5E1C54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86F10-B1E1-46CA-AE9B-497470B2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BBF24-8A95-4710-AF11-C74FA6BC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CBA2D-8801-4773-9EFE-8EF3C340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A83EBA-8902-4039-8F50-D30F414E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F833B-D233-49B8-A258-19768713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CA2EE-2015-415A-97C2-2F6FFC10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D2E64-4ADC-4236-AE8F-E8E8EA66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204585-5BB0-44BD-9B4F-1C5005D9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B0D4-8363-4FC2-B4F9-EF43EB9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693-F4A6-44E4-B496-628E67FE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1B37-0A8D-4777-B41D-5C118C58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571D-4BDE-46C9-847E-585BA9FB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1F0E-AC0C-4F89-91D1-79113433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BDF4-CD60-4813-AC09-46E7FC0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D598-BD41-4B1C-9436-D6483CF90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4F34-B4B5-4785-9398-13FFCF17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582D-AD31-4998-B4A0-C7289191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0201-B488-45DA-AE83-1BD4227B8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3E76-F482-4C2A-89F1-4973B677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4392-7AC8-412B-8316-989E002D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ACC4-89C1-4F22-BBDE-6BD99223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971A8-DC46-49F0-AC80-7AABB876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474D-B59B-4452-A7BC-D6C004AC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D22B-0954-428D-A75A-6F208C06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F25E-B1FE-43AF-8A98-393B64F7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0E29-F068-404A-AE11-EF1EBF3F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5003B-2DAA-47D8-A2DB-174543745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217B7-444A-44A0-90B2-3D5EB0F7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6635-58AC-4EB7-8100-0A117E5F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1213D-AA8B-4678-9B3B-2B355194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F5B7-AA4B-4E2C-88E9-BB7D8F0B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0FFB-6919-4F98-AD8F-246AC859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ACCC4-D1C1-4AFE-A4C0-BA2ADEBD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300F-6949-4DA9-8EF1-43559390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4460E-CC16-470F-BDA5-83CDD689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F0B7-CFF3-4324-A129-55AA3D7F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5E75C-FE90-4FF9-A568-EA04E497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D6BF2-9035-445F-94BF-DE871047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C748-B5FD-4DE6-A5AF-606231259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AD7-CF6A-42AF-BE51-03322B7C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70AFE-0A6F-4A2E-B5BE-DD1B8EB0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9A3E9-2A86-4815-9367-3C3F2DF5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198F5-D5B4-42F0-B84A-1E6DF60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99AA0-1D46-432A-8B43-1602E370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9684D-74D1-4B68-962C-2DC301C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DB2BF-165C-4B95-90D5-336833B7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E1E1D-B73B-4BB7-BC09-665A6202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CDCDA-B180-4117-B557-BD6AA08D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6B5C3-F5C3-435A-A093-6A4A62FD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20B60-12BF-4DC4-B178-4C1A60B9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1664-7AC3-4606-A8E0-A747E66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BF70-C039-4A4B-9AAF-FD42303E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0A89-DFC9-46E9-A1B8-D9FFDF5D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11E3-EBFF-4C05-A4CB-EAC558F8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26338-A8EC-4D4B-89A4-21D3ED73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AD35-1034-4C35-89D1-67AC034C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3A3DD0-C8A6-48E6-90AA-7412C606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1145B-8F82-40CC-82A6-011C85EC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D19F-C5B2-4610-94D3-BB551609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D3883-E9FC-4FCB-A109-CAB120F5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E8103-0CAE-4443-949D-DB5A3154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49BC-9CC7-4D95-988A-7D5AD572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4492A-CD06-4D7E-8BAA-F3659D6C7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ECE1-9DAD-408D-A137-B92245E0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2127-914E-40CE-BD47-98115CFC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D5A16-9C42-449C-AB10-E27FDE00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E35ED-103F-401E-BF21-FFED3A64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239DA-FC91-4B84-9824-534626C17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24EF-BC19-4C0D-B811-241A5C54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A1D14-AC13-4C46-8752-EB4FCB7C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E78F9-EFC2-4C6D-B1B4-F669588E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32B56-4814-4425-BB43-08DE98C3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5B28-8952-4BB1-AC23-69470C59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CCBD7-ABFA-4E59-BC7B-A6DEEB7B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030F7-8FDB-463D-9934-1869473C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4DEE2-F6ED-4062-B682-683D340F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78FFC-A63F-41F0-A42D-6BDA6E9D2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5E8CE-346F-4127-AF08-81C2703C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D7076-A279-414C-A237-9D64AE6C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2AE18-DB04-43BF-BCF9-3B0BFD09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6B58F-6E5D-4B3B-B4DC-11079A011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5233B-7996-4D28-9EA9-DEF20D84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52A5F-CB73-494D-AF06-E12B5634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8D9-09EF-48A5-A8BE-7466851B5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AA3F8-B4F5-461C-B6EB-AFD3CF34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D2185-E121-48A0-AE7F-A9246C6B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50375-455A-4F2D-93AF-B303E512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FE28A-D3F0-4F25-9752-3BCCAFEF3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86270-8E4A-42C1-B6CA-16D9BBBA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2AB80-1E3C-4340-8950-24D43273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E664A5-49E7-4E14-BA49-F0EA937A8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21E98-D3B1-4033-8C43-8E8470C2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C70B5-2A38-4944-B2D9-1CE98476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1BFDD-5BE8-4190-81E8-650F81B2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CEF-0831-497F-97A4-6DE49854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9BF43-FB63-41B1-818F-A6B82732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EDA02-1848-442D-B7AB-93705C63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E8B3-AB03-495F-880A-1C19AB7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4BEBC-1EB8-40E5-8A78-FC7CF7E5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9C307-2415-4631-8C84-ACC649BB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883281-4840-4808-B7ED-A556E48F1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9C177-C1BF-42A1-828E-9CF8F5D7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FE7800-1BAD-4A34-9766-B7C77EC9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868D1-C1CA-41B0-9CDC-4DD7BA26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79DC6-FA89-4F17-B6EB-3774CDDF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617-D96E-4DBC-AA9A-B6A656A6D43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A054-FD93-4870-ACAA-55A88F30624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5B03-595C-403D-B8D0-5639531E7AD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093D-F76E-483F-A97E-0FB992EF9F4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9722-0A29-4AB3-9F45-224EEA3280F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C461-5ECB-49E2-BACA-D9F8F4064CC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64C7-8DB0-47EA-85D2-788696BB627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5675-DFE1-426B-8EBF-F560BD70991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FCF8-D9E6-43DF-BB96-D3B2799AAFA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9" descr="http://mann.spps.org/sites/4f16e46d-c440-4367-aca0-ca3ecf7f74fc/uploads/Classrooms_2.jpg"/>
          <p:cNvPicPr/>
          <p:nvPr/>
        </p:nvPicPr>
        <p:blipFill>
          <a:blip r:embed="rId1"/>
          <a:stretch/>
        </p:blipFill>
        <p:spPr>
          <a:xfrm>
            <a:off x="3651120" y="835200"/>
            <a:ext cx="5321520" cy="4267080"/>
          </a:xfrm>
          <a:prstGeom prst="rect">
            <a:avLst/>
          </a:prstGeom>
          <a:ln w="0">
            <a:noFill/>
          </a:ln>
        </p:spPr>
      </p:pic>
      <p:pic>
        <p:nvPicPr>
          <p:cNvPr id="400" name="Title 1" descr=""/>
          <p:cNvPicPr/>
          <p:nvPr/>
        </p:nvPicPr>
        <p:blipFill>
          <a:blip r:embed="rId2"/>
          <a:stretch/>
        </p:blipFill>
        <p:spPr>
          <a:xfrm>
            <a:off x="103320" y="4784760"/>
            <a:ext cx="8669160" cy="1324080"/>
          </a:xfrm>
          <a:prstGeom prst="rect">
            <a:avLst/>
          </a:prstGeom>
          <a:ln w="0">
            <a:noFill/>
          </a:ln>
        </p:spPr>
      </p:pic>
      <p:pic>
        <p:nvPicPr>
          <p:cNvPr id="401" name="Subtitle 2" descr=""/>
          <p:cNvPicPr/>
          <p:nvPr/>
        </p:nvPicPr>
        <p:blipFill>
          <a:blip r:embed="rId3"/>
          <a:stretch/>
        </p:blipFill>
        <p:spPr>
          <a:xfrm>
            <a:off x="5346720" y="3700440"/>
            <a:ext cx="2955960" cy="2724120"/>
          </a:xfrm>
          <a:prstGeom prst="rect">
            <a:avLst/>
          </a:prstGeom>
          <a:ln w="0">
            <a:noFill/>
          </a:ln>
        </p:spPr>
      </p:pic>
      <p:sp>
        <p:nvSpPr>
          <p:cNvPr id="402" name="Subtitle 2"/>
          <p:cNvSpPr/>
          <p:nvPr/>
        </p:nvSpPr>
        <p:spPr>
          <a:xfrm>
            <a:off x="304920" y="41148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Are you prepar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ubtitle 2"/>
          <p:cNvSpPr/>
          <p:nvPr/>
        </p:nvSpPr>
        <p:spPr>
          <a:xfrm>
            <a:off x="3200400" y="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3329"/>
                </a:solidFill>
                <a:latin typeface="Franklin Gothic Book"/>
              </a:rPr>
              <a:t>Department of Edu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3329"/>
                </a:solidFill>
                <a:latin typeface="Franklin Gothic Book"/>
              </a:rPr>
              <a:t>Eastern Washington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ubtitle 2"/>
          <p:cNvSpPr/>
          <p:nvPr/>
        </p:nvSpPr>
        <p:spPr>
          <a:xfrm>
            <a:off x="327672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43329"/>
                </a:solidFill>
                <a:latin typeface="Franklin Gothic Book"/>
              </a:rPr>
              <a:t>18 Februar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ubtitle 2"/>
          <p:cNvSpPr/>
          <p:nvPr/>
        </p:nvSpPr>
        <p:spPr>
          <a:xfrm>
            <a:off x="0" y="1295280"/>
            <a:ext cx="4495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EDUC 4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Introduction to Reading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and </a:t>
            </a:r>
            <a:r>
              <a:rPr b="0" i="1" lang="en-US" sz="1600" spc="-1" strike="noStrike" u="sng">
                <a:solidFill>
                  <a:srgbClr val="443329"/>
                </a:solidFill>
                <a:uFillTx/>
                <a:latin typeface="Franklin Gothic Book"/>
              </a:rPr>
              <a:t>Acceleratio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3329"/>
                </a:solidFill>
                <a:latin typeface="Franklin Gothic Book"/>
              </a:rPr>
              <a:t>Informative Group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304920" y="155412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s. Nickie Vang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p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rs. Laura Landee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p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Mr. Ryan Lavin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Topic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04920" y="1554120"/>
            <a:ext cx="8686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4T22:49:18Z</dcterms:created>
  <dc:creator>Ruth</dc:creator>
  <dc:description/>
  <dc:language>en-US</dc:language>
  <cp:lastModifiedBy>Mr. Ryan Lavine</cp:lastModifiedBy>
  <dcterms:modified xsi:type="dcterms:W3CDTF">2009-01-28T22:42:53Z</dcterms:modified>
  <cp:revision>9</cp:revision>
  <dc:subject/>
  <dc:title>English Language Learners</dc:title>
</cp:coreProperties>
</file>